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35600" cy="986940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9400"/>
              <a:gd name="textAreaBottom" fmla="*/ 9869040 h 9869400"/>
            </a:gdLst>
            <a:ahLst/>
            <a:rect l="textAreaLeft" t="textAreaTop" r="textAreaRight" b="textAreaBottom"/>
            <a:pathLst>
              <a:path w="21600" h="31649">
                <a:moveTo>
                  <a:pt x="5" y="0"/>
                </a:moveTo>
                <a:arcTo wR="5" hR="5" stAng="16200000" swAng="-5400000"/>
                <a:lnTo>
                  <a:pt x="0" y="31644"/>
                </a:lnTo>
                <a:arcTo wR="5" hR="5" stAng="10800000" swAng="-5400000"/>
                <a:lnTo>
                  <a:pt x="21595" y="316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280" rIns="892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37404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14560" y="937368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2D2C44F3-B415-42C6-A161-FC9C5AF63B3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4EC89A32-6072-4573-A0D3-05EC7AAEE00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0F623B2C-0B59-47F2-B3DE-E683B8E9AA4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5AA69-254D-4556-9542-3AAC367D65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EBB2F-2085-4E61-825F-47D0C84F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C4C5D-7551-4FA0-8752-0D9564AB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D290B-9DFA-49D3-9843-A832A552CB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3A1C4-F523-44BA-A1EA-4230CB1C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F335B-CC55-44CA-8D12-B3ECEDDA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515D5-7FF1-4818-8BD1-045BF139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99583-0C45-41EE-BCA7-C3921397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D79DC-7D72-4A15-A152-7EFAC7F0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467F5-B1EA-409B-96AD-132246E1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65220-FF5D-46E8-96B1-04DADD70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A63C5-29F0-4DCA-A48E-1807944A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9.08.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B875B7-4522-4B2F-8CF8-B0E4A4C9836C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623880" y="124452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рожная карта»  План мероприятий по реализации проекта «Бережливая поликлиника»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ударственном бюджетном учреждении здравоохранения «ГБУЗ Кузнецкая межрайонная больница» поликлиника №1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 КВАРТАЛ 2019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76120" y="2093760"/>
          <a:ext cx="8528040" cy="3897360"/>
        </p:xfrm>
        <a:graphic>
          <a:graphicData uri="http://schemas.openxmlformats.org/drawingml/2006/table">
            <a:tbl>
              <a:tblPr/>
              <a:tblGrid>
                <a:gridCol w="293760"/>
                <a:gridCol w="2244600"/>
                <a:gridCol w="489240"/>
                <a:gridCol w="404640"/>
                <a:gridCol w="365040"/>
                <a:gridCol w="384480"/>
                <a:gridCol w="434880"/>
                <a:gridCol w="35568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  <a:gridCol w="355680"/>
                <a:gridCol w="355680"/>
                <a:gridCol w="355320"/>
              </a:tblGrid>
              <a:tr h="63180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.01.20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.01.2019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0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ть в поликлинике №1 государственном бюджетном учреждении здравоохранения  Кузнецкая межрайонная больница рабочую группу по реализации пилотного проекта «Бережливая поликлиника» на территории поликлиники№1 (далее – рабочая группа), определить лидеров проектов по направления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ать и представить на обсуждение рабочей группы макет планировки регистратуры поликлиники с учетом принятых решений о расширении зон ожидания пациентов (ул. Правды,13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гласование перечня проблем, требующих решен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ор кабинета для реализации проекта по внедрению системы 5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учение рабочей группы  поликлиники 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ка регламентирующей документации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сти фотофиксацию до начала проекта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едрить лист предложений и лист проблем для сотруднико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делать заявку на недостающее оборудовани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461"/>
          <p:cNvSpPr/>
          <p:nvPr/>
        </p:nvSpPr>
        <p:spPr>
          <a:xfrm>
            <a:off x="569880" y="165240"/>
            <a:ext cx="342900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врач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УЗ « Кузнецкая межрайонная больниц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апов А.В.  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62"/>
          <p:cNvSpPr/>
          <p:nvPr/>
        </p:nvSpPr>
        <p:spPr>
          <a:xfrm>
            <a:off x="5519880" y="176040"/>
            <a:ext cx="312408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26880" y="544680"/>
          <a:ext cx="8285400" cy="485424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633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-19.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28.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Тактического плана реализаци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основе выявленных проблем составить детальный план мероприятий согласно системе 5С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сти работы по внедрению 5С на рабочем месте врача терапевта и врача общей практики в кабинете №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рить эффективность улучшенных процессов. При необходимости внести корректировку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авить отчет о проделанной работ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09:01:08Z</dcterms:created>
  <dc:creator>Румянцева Луиза Марсовна</dc:creator>
  <dc:description/>
  <dc:language>en-US</dc:language>
  <cp:lastModifiedBy>user</cp:lastModifiedBy>
  <cp:lastPrinted>2019-02-04T11:58:58Z</cp:lastPrinted>
  <dcterms:modified xsi:type="dcterms:W3CDTF">2019-02-04T11:38:15Z</dcterms:modified>
  <cp:revision>342</cp:revision>
  <dc:subject/>
  <dc:title>Слайд 1</dc:title>
</cp:coreProperties>
</file>